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6F56-ECF2-4A60-A311-A482D864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CCE-E2A5-4415-B866-C16F1E46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44C-45CC-4BDE-87AD-B1592616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866-0930-47FD-BB88-956ACB1D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225-F86A-4AD1-8171-145FF9FB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170-749A-4188-9B22-8E94619E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F32-3C7D-48A2-ADE4-4D326DA6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FBC-A860-4992-903E-85EB4977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700-4ADD-4358-9FF2-B49C345B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A51-1D26-4967-8346-D4716578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20D4-CCFB-41B3-BB77-89D8C54C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C17-3EB1-40E7-BDED-78646B36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E57A-E0CF-4F14-B61A-097B6F4C5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The Lord be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so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ift up your he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lift them to the L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et us give than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to the Lord our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t is right to g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thanks and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05:04Z</dcterms:created>
  <dc:creator>Anon Anon</dc:creator>
  <dc:description/>
  <dc:language>en-US</dc:language>
  <cp:lastModifiedBy>Anon Anon</cp:lastModifiedBy>
  <dcterms:modified xsi:type="dcterms:W3CDTF">2005-08-09T05:22:47Z</dcterms:modified>
  <cp:revision>12</cp:revision>
  <dc:subject/>
  <dc:title>PowerPoint Presentation</dc:title>
</cp:coreProperties>
</file>